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83A-2930-4414-8AA4-656FD844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339-CDBB-42CF-A4B5-E500ED4E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F88-7708-4D19-BCA7-16AAB675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698-36CB-420E-92A5-0837C965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548-8D5A-49A1-8461-CA183A64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7DA-7890-4D04-94AE-99892E01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A9F-DC73-480F-AC6F-41C2B04D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DEE-5832-4097-9747-69B7D1B8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A6E-1B00-4CFA-BD55-81508134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C40-212A-47AA-8EBA-23914852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AB6-E320-4437-805C-430AB005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C2E-0FB9-457B-B07B-091C5B9E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06EB-FE71-4092-9A73-BFEF6E650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304920"/>
            <a:ext cx="3713760" cy="2741400"/>
            <a:chOff x="304920" y="304920"/>
            <a:chExt cx="3713760" cy="2741400"/>
          </a:xfrm>
        </p:grpSpPr>
        <p:pic>
          <p:nvPicPr>
            <p:cNvPr id="43" name="allardS" descr="allards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0492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49056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4876920" y="304920"/>
            <a:ext cx="3713760" cy="2741400"/>
            <a:chOff x="4876920" y="304920"/>
            <a:chExt cx="3713760" cy="2741400"/>
          </a:xfrm>
        </p:grpSpPr>
        <p:pic>
          <p:nvPicPr>
            <p:cNvPr id="46" name="amalia_newest" descr="amalianewest"/>
            <p:cNvPicPr/>
            <p:nvPr/>
          </p:nvPicPr>
          <p:blipFill>
            <a:blip r:embed="rId2"/>
            <a:stretch/>
          </p:blipFill>
          <p:spPr>
            <a:xfrm>
              <a:off x="487692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06256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04920" y="3659040"/>
            <a:ext cx="3655800" cy="2741760"/>
            <a:chOff x="304920" y="3659040"/>
            <a:chExt cx="3655800" cy="2741760"/>
          </a:xfrm>
        </p:grpSpPr>
        <p:pic>
          <p:nvPicPr>
            <p:cNvPr id="50" name="andrew" descr="andrew"/>
            <p:cNvPicPr/>
            <p:nvPr/>
          </p:nvPicPr>
          <p:blipFill>
            <a:blip r:embed="rId3"/>
            <a:stretch/>
          </p:blipFill>
          <p:spPr>
            <a:xfrm>
              <a:off x="304920" y="365904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89120" y="3712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876920" y="3659040"/>
            <a:ext cx="3655800" cy="2741760"/>
            <a:chOff x="4876920" y="3659040"/>
            <a:chExt cx="3655800" cy="2741760"/>
          </a:xfrm>
        </p:grpSpPr>
        <p:pic>
          <p:nvPicPr>
            <p:cNvPr id="53" name="bas_kort" descr="bas kort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>
              <a:off x="4876920" y="365904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061120" y="3712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41720" y="29718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13360" y="30891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9840" y="62895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42680" y="63244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 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57200" y="304920"/>
            <a:ext cx="3713760" cy="2741400"/>
            <a:chOff x="457200" y="304920"/>
            <a:chExt cx="3713760" cy="2741400"/>
          </a:xfrm>
        </p:grpSpPr>
        <p:pic>
          <p:nvPicPr>
            <p:cNvPr id="60" name="belinda" descr="belinda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4572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64284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dianNS" descr="dian ns"/>
          <p:cNvPicPr/>
          <p:nvPr/>
        </p:nvPicPr>
        <p:blipFill>
          <a:blip r:embed="rId2"/>
          <a:stretch/>
        </p:blipFill>
        <p:spPr>
          <a:xfrm>
            <a:off x="4724280" y="304920"/>
            <a:ext cx="3656160" cy="27414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724280" y="3581280"/>
            <a:ext cx="3656160" cy="2741760"/>
            <a:chOff x="4724280" y="3581280"/>
            <a:chExt cx="3656160" cy="2741760"/>
          </a:xfrm>
        </p:grpSpPr>
        <p:pic>
          <p:nvPicPr>
            <p:cNvPr id="64" name="geiske" descr="geiske"/>
            <p:cNvPicPr/>
            <p:nvPr/>
          </p:nvPicPr>
          <p:blipFill>
            <a:blip r:embed="rId3">
              <a:lum contrast="36000"/>
            </a:blip>
            <a:stretch/>
          </p:blipFill>
          <p:spPr>
            <a:xfrm>
              <a:off x="4724280" y="358128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908840" y="3634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46280" y="30132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48320" y="308916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n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81280"/>
            <a:ext cx="3713760" cy="2741760"/>
            <a:chOff x="457200" y="3581280"/>
            <a:chExt cx="3713760" cy="2741760"/>
          </a:xfrm>
        </p:grpSpPr>
        <p:pic>
          <p:nvPicPr>
            <p:cNvPr id="69" name="ewieS" descr="ewie"/>
            <p:cNvPicPr/>
            <p:nvPr/>
          </p:nvPicPr>
          <p:blipFill>
            <a:blip r:embed="rId4"/>
            <a:stretch/>
          </p:blipFill>
          <p:spPr>
            <a:xfrm>
              <a:off x="457200" y="358128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642840" y="3634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99640" y="6289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w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19000" y="6289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is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685800" y="304920"/>
            <a:ext cx="3656160" cy="2741400"/>
            <a:chOff x="685800" y="304920"/>
            <a:chExt cx="3656160" cy="2741400"/>
          </a:xfrm>
        </p:grpSpPr>
        <p:pic>
          <p:nvPicPr>
            <p:cNvPr id="74" name="henriette" descr="henriette"/>
            <p:cNvPicPr/>
            <p:nvPr/>
          </p:nvPicPr>
          <p:blipFill>
            <a:blip r:embed="rId1"/>
            <a:stretch/>
          </p:blipFill>
          <p:spPr>
            <a:xfrm>
              <a:off x="6858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870360" y="358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00600" y="304920"/>
            <a:ext cx="3713760" cy="2741400"/>
            <a:chOff x="4800600" y="304920"/>
            <a:chExt cx="3713760" cy="2741400"/>
          </a:xfrm>
        </p:grpSpPr>
        <p:pic>
          <p:nvPicPr>
            <p:cNvPr id="77" name="hilde" descr="hilde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98624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3657600"/>
            <a:ext cx="3713760" cy="2741760"/>
            <a:chOff x="762120" y="3657600"/>
            <a:chExt cx="3713760" cy="2741760"/>
          </a:xfrm>
        </p:grpSpPr>
        <p:pic>
          <p:nvPicPr>
            <p:cNvPr id="80" name="last_one" descr="last one"/>
            <p:cNvPicPr/>
            <p:nvPr/>
          </p:nvPicPr>
          <p:blipFill>
            <a:blip r:embed="rId3"/>
            <a:stretch/>
          </p:blipFill>
          <p:spPr>
            <a:xfrm>
              <a:off x="762120" y="365760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947760" y="3711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876920" y="3657600"/>
            <a:ext cx="3713760" cy="2741760"/>
            <a:chOff x="4876920" y="3657600"/>
            <a:chExt cx="3713760" cy="2741760"/>
          </a:xfrm>
        </p:grpSpPr>
        <p:pic>
          <p:nvPicPr>
            <p:cNvPr id="83" name="maartenS2" descr="maarten s2"/>
            <p:cNvPicPr/>
            <p:nvPr/>
          </p:nvPicPr>
          <p:blipFill>
            <a:blip r:embed="rId4"/>
            <a:stretch/>
          </p:blipFill>
          <p:spPr>
            <a:xfrm>
              <a:off x="4876920" y="36576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062560" y="3711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050120" y="30891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i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4960" y="3013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03480" y="63658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64008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rten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14400" y="685800"/>
            <a:ext cx="3713760" cy="2741760"/>
            <a:chOff x="914400" y="685800"/>
            <a:chExt cx="3713760" cy="2741760"/>
          </a:xfrm>
        </p:grpSpPr>
        <p:pic>
          <p:nvPicPr>
            <p:cNvPr id="90" name="reinerS" descr="reinier s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914400" y="6858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100040" y="7394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432080" y="35463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ni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952880" y="685800"/>
            <a:ext cx="3713760" cy="2741760"/>
            <a:chOff x="4952880" y="685800"/>
            <a:chExt cx="3713760" cy="2741760"/>
          </a:xfrm>
        </p:grpSpPr>
        <p:pic>
          <p:nvPicPr>
            <p:cNvPr id="94" name="triton_newest" descr="triton newest"/>
            <p:cNvPicPr/>
            <p:nvPr/>
          </p:nvPicPr>
          <p:blipFill>
            <a:blip r:embed="rId2"/>
            <a:stretch/>
          </p:blipFill>
          <p:spPr>
            <a:xfrm>
              <a:off x="4952880" y="6858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138520" y="7394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70200" y="34704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ton ne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58:51Z</dcterms:created>
  <dc:creator>Dionne</dc:creator>
  <dc:description/>
  <dc:language>en-US</dc:language>
  <cp:lastModifiedBy>Rinia</cp:lastModifiedBy>
  <dcterms:modified xsi:type="dcterms:W3CDTF">2003-06-16T14:10:41Z</dcterms:modified>
  <cp:revision>11</cp:revision>
  <dc:subject/>
  <dc:title>PowerPoint Presentation</dc:title>
</cp:coreProperties>
</file>