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E793-66B8-42DD-8B72-D4737390D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6F3F-134B-40CC-B575-8174DA5E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9CF2-F452-4086-B4F1-CC0BFC274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F2C2-9620-44F7-B486-0637B03B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05A8-D7A3-4098-8D2F-30F3AA11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70FF-F38F-4461-9D3B-017D33B6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CA81-7E53-41C6-9A66-F3E29378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A255-A701-425C-BAD6-10AD4951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102C-85C6-455B-B94D-D0F64F6D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89C0-9F47-43D3-B2F6-D4531365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1F49-B8D3-4021-9090-D9A315F9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8D8C-E557-4D2E-A6F2-A3F4C2DA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B5D2-3938-4761-AA38-4F3F2987A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l6_1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42" name="bl7_1" descr=""/>
          <p:cNvPicPr/>
          <p:nvPr/>
        </p:nvPicPr>
        <p:blipFill>
          <a:blip r:embed="rId2"/>
          <a:stretch/>
        </p:blipFill>
        <p:spPr>
          <a:xfrm>
            <a:off x="4876920" y="45720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43" name="bl8_1" descr=""/>
          <p:cNvPicPr/>
          <p:nvPr/>
        </p:nvPicPr>
        <p:blipFill>
          <a:blip r:embed="rId3"/>
          <a:stretch/>
        </p:blipFill>
        <p:spPr>
          <a:xfrm>
            <a:off x="609480" y="373536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44" name="bl9_1" descr=""/>
          <p:cNvPicPr/>
          <p:nvPr/>
        </p:nvPicPr>
        <p:blipFill>
          <a:blip r:embed="rId4"/>
          <a:stretch/>
        </p:blipFill>
        <p:spPr>
          <a:xfrm>
            <a:off x="4876920" y="3735360"/>
            <a:ext cx="3655800" cy="2741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72840" y="2438280"/>
            <a:ext cx="925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6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39920" y="2438280"/>
            <a:ext cx="925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7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2840" y="5715000"/>
            <a:ext cx="925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8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39920" y="5715000"/>
            <a:ext cx="925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9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l10_2" descr=""/>
          <p:cNvPicPr/>
          <p:nvPr/>
        </p:nvPicPr>
        <p:blipFill>
          <a:blip r:embed="rId1"/>
          <a:stretch/>
        </p:blipFill>
        <p:spPr>
          <a:xfrm>
            <a:off x="609480" y="45864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2840" y="243828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0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bl11_1new" descr=""/>
          <p:cNvPicPr/>
          <p:nvPr/>
        </p:nvPicPr>
        <p:blipFill>
          <a:blip r:embed="rId2"/>
          <a:stretch/>
        </p:blipFill>
        <p:spPr>
          <a:xfrm>
            <a:off x="4952880" y="45864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030640" y="243828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1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bl12_1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656160" cy="2741400"/>
          </a:xfrm>
          <a:prstGeom prst="rect">
            <a:avLst/>
          </a:prstGeom>
          <a:ln w="0">
            <a:noFill/>
          </a:ln>
        </p:spPr>
      </p:pic>
      <p:pic>
        <p:nvPicPr>
          <p:cNvPr id="54" name="BL13_1withtube" descr=""/>
          <p:cNvPicPr/>
          <p:nvPr/>
        </p:nvPicPr>
        <p:blipFill>
          <a:blip r:embed="rId4"/>
          <a:stretch/>
        </p:blipFill>
        <p:spPr>
          <a:xfrm>
            <a:off x="5029200" y="365760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7240" y="571500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2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06960" y="563868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3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bl14withtube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655800" cy="2741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560" y="236232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4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lx_2_17nov_alfa" descr=""/>
          <p:cNvPicPr/>
          <p:nvPr/>
        </p:nvPicPr>
        <p:blipFill>
          <a:blip r:embed="rId2"/>
          <a:stretch/>
        </p:blipFill>
        <p:spPr>
          <a:xfrm>
            <a:off x="4800600" y="45720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316640" y="236232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5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ly_2_17nov_beta" descr=""/>
          <p:cNvPicPr/>
          <p:nvPr/>
        </p:nvPicPr>
        <p:blipFill>
          <a:blip r:embed="rId3"/>
          <a:stretch/>
        </p:blipFill>
        <p:spPr>
          <a:xfrm>
            <a:off x="609480" y="365760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560" y="556272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6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5360" y="6324480"/>
            <a:ext cx="44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f de nanotube echt op 2 z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l17nov_links_1" descr=""/>
          <p:cNvPicPr/>
          <p:nvPr/>
        </p:nvPicPr>
        <p:blipFill>
          <a:blip r:embed="rId4"/>
          <a:stretch/>
        </p:blipFill>
        <p:spPr>
          <a:xfrm>
            <a:off x="4876920" y="3733920"/>
            <a:ext cx="3655800" cy="2741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92960" y="563868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5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bl17nov_2de_van_rechts_2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560" y="228600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7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bl17nov_rechts_1" descr=""/>
          <p:cNvPicPr/>
          <p:nvPr/>
        </p:nvPicPr>
        <p:blipFill>
          <a:blip r:embed="rId2"/>
          <a:stretch/>
        </p:blipFill>
        <p:spPr>
          <a:xfrm>
            <a:off x="4876920" y="380880"/>
            <a:ext cx="3655800" cy="2741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030640" y="228600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8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bl19_1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656160" cy="2741400"/>
          </a:xfrm>
          <a:prstGeom prst="rect">
            <a:avLst/>
          </a:prstGeom>
          <a:ln w="0">
            <a:noFill/>
          </a:ln>
        </p:spPr>
      </p:pic>
      <p:pic>
        <p:nvPicPr>
          <p:cNvPr id="71" name="bl20_1" descr=""/>
          <p:cNvPicPr/>
          <p:nvPr/>
        </p:nvPicPr>
        <p:blipFill>
          <a:blip r:embed="rId4"/>
          <a:stretch/>
        </p:blipFill>
        <p:spPr>
          <a:xfrm>
            <a:off x="4876920" y="3733920"/>
            <a:ext cx="3655800" cy="2741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39520" y="556272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9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40320" y="548640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20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68760" y="6400800"/>
            <a:ext cx="44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f de nanotube echt op 1 z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bl24_1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39520" y="228600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24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bl23withtube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316280" y="2286000"/>
            <a:ext cx="1061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23_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33440" y="3089160"/>
            <a:ext cx="28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ie labjournaal All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bio%2022_1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656160" cy="2741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820600" y="5562720"/>
            <a:ext cx="123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22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533520" y="3657600"/>
            <a:ext cx="3655800" cy="2741760"/>
            <a:chOff x="533520" y="3657600"/>
            <a:chExt cx="3655800" cy="2741760"/>
          </a:xfrm>
        </p:grpSpPr>
        <p:pic>
          <p:nvPicPr>
            <p:cNvPr id="83" name="TM25_withtube" descr=""/>
            <p:cNvPicPr/>
            <p:nvPr/>
          </p:nvPicPr>
          <p:blipFill>
            <a:blip r:embed="rId1"/>
            <a:stretch/>
          </p:blipFill>
          <p:spPr>
            <a:xfrm>
              <a:off x="533520" y="3657600"/>
              <a:ext cx="365580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3125880" y="5562720"/>
              <a:ext cx="942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M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" name="TM24withtube" descr=""/>
          <p:cNvPicPr/>
          <p:nvPr/>
        </p:nvPicPr>
        <p:blipFill>
          <a:blip r:embed="rId2"/>
          <a:stretch/>
        </p:blipFill>
        <p:spPr>
          <a:xfrm>
            <a:off x="4876920" y="380880"/>
            <a:ext cx="3655800" cy="2741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106960" y="2286000"/>
            <a:ext cx="942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TM23withtube" descr=""/>
          <p:cNvPicPr/>
          <p:nvPr/>
        </p:nvPicPr>
        <p:blipFill>
          <a:blip r:embed="rId3"/>
          <a:stretch/>
        </p:blipFill>
        <p:spPr>
          <a:xfrm>
            <a:off x="533520" y="457200"/>
            <a:ext cx="3655800" cy="2741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897280" y="2362320"/>
            <a:ext cx="942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buckling_for_shortening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10:09:42Z</dcterms:created>
  <dc:creator>Dionne</dc:creator>
  <dc:description/>
  <dc:language>en-US</dc:language>
  <cp:lastModifiedBy>Dionne</cp:lastModifiedBy>
  <dcterms:modified xsi:type="dcterms:W3CDTF">2003-11-20T10:56:35Z</dcterms:modified>
  <cp:revision>13</cp:revision>
  <dc:subject/>
  <dc:title>PowerPoint Presentation</dc:title>
</cp:coreProperties>
</file>