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035-E95A-475C-B563-E226086F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901-9202-4B53-9D92-7EFF6E04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748C-DE70-4EB9-9273-64AE60A7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958-F8E2-4AC9-82BB-276F6DF6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FF8-0F31-4B24-B6ED-54271CB6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65C-68C0-4C0F-BCC1-027291FF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1F1-3E9B-435B-B3DC-03700DA5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6B2-DF63-44A6-AEF6-62DED5FF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737-3C82-4434-B3BD-0BA8CBB7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C0F-7156-4CB4-ADF2-0D8338A3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BDE-EE12-415B-93E2-6A1084F4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947-B5CF-41F3-8363-7B9C6A69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F1C3-DF6C-4A42-82FA-C395FA649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blc1519f03" descr=""/>
          <p:cNvPicPr/>
          <p:nvPr/>
        </p:nvPicPr>
        <p:blipFill>
          <a:blip r:embed="rId1"/>
          <a:stretch/>
        </p:blipFill>
        <p:spPr>
          <a:xfrm>
            <a:off x="4724280" y="5335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42" name="Mblasp10f04" descr=""/>
          <p:cNvPicPr/>
          <p:nvPr/>
        </p:nvPicPr>
        <p:blipFill>
          <a:blip r:embed="rId2"/>
          <a:stretch/>
        </p:blipFill>
        <p:spPr>
          <a:xfrm>
            <a:off x="152280" y="369576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53160" y="7632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 cleaning: UV o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blasp10f02" descr=""/>
          <p:cNvPicPr/>
          <p:nvPr/>
        </p:nvPicPr>
        <p:blipFill>
          <a:blip r:embed="rId3"/>
          <a:stretch/>
        </p:blipFill>
        <p:spPr>
          <a:xfrm>
            <a:off x="152280" y="55260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8520" y="5634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d before UV ozone clea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8880" y="373392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d w. better tip (same da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71760" y="609480"/>
            <a:ext cx="27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cleaning (and 5 days la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30440" y="380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It seems it does work a bit at lea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97720" y="4114800"/>
            <a:ext cx="4112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 used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nse tip in etha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UV ozone cleaner for 10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oor room 828, contact person Rob Zonderv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nse with ethanol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d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uspect that it is the last ethanol rinse that is importa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562720"/>
            <a:ext cx="3809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ple is MBL/MASP complexes. It seems we only see MASP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ensity is probably very low due to a rinse with buffer before DI water rins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haps complexes sedimented due to 6 min ultracentrifugation or they wre washed o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32280" y="6485040"/>
            <a:ext cx="141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nriette October 15 200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5:43:30Z</dcterms:created>
  <dc:creator>Henriette Jensenius</dc:creator>
  <dc:description/>
  <dc:language>en-US</dc:language>
  <cp:lastModifiedBy>hjensen</cp:lastModifiedBy>
  <dcterms:modified xsi:type="dcterms:W3CDTF">2003-07-11T09:04:22Z</dcterms:modified>
  <cp:revision>5</cp:revision>
  <dc:subject/>
  <dc:title>PowerPoint Presentation</dc:title>
</cp:coreProperties>
</file>