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F2F-3C06-4E15-BBD6-166D6906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5D2-6874-44CC-95D9-CB5061F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A83-EF4F-41A9-A4AF-4A276EDB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1F7-F25C-45B1-94E2-1EF1F508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2BD-BAE9-4F9C-9E34-D29F9488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0AE-BF5B-4875-BD18-066AC0B6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19A-AC98-4EF6-9D53-07B9201B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A88-1B0D-43CD-A0D9-315D93A4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524-29FE-4EE0-997A-880384D9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6A5-FC90-46AB-BAA7-A2175ABF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A2D-85F1-4577-A330-0B3E7A2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543-549E-44A8-AEE4-F564EA8E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BA86-EE91-4BB1-9507-B49F639A0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scovitmica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30080" y="2286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838080"/>
            <a:ext cx="44766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erent che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mic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H,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t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logop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ch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innwal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pido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uscovitemica2" descr=""/>
          <p:cNvPicPr/>
          <p:nvPr/>
        </p:nvPicPr>
        <p:blipFill>
          <a:blip r:embed="rId2"/>
          <a:stretch/>
        </p:blipFill>
        <p:spPr>
          <a:xfrm>
            <a:off x="457200" y="3932280"/>
            <a:ext cx="449568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4120" y="3276720"/>
            <a:ext cx="359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provides cleanest and most defect free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 muscovite is of the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muscovite V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8280" y="1442880"/>
            <a:ext cx="7867440" cy="3972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38160" y="45720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e of muscovite 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280" y="6095880"/>
            <a:ext cx="62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: Daniel J. M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üller, Journal of Structural Biology 119, 172-188 (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87480" y="803160"/>
            <a:ext cx="258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: Si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: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83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are twin variety from Brazil forms yellow five pointed stars and is called "Star Muscovite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ep green variety is called fuchsite and is colored by chromium inpur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heat insulator (oven wind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6:22:38Z</dcterms:created>
  <dc:creator>Dionne</dc:creator>
  <dc:description/>
  <dc:language>en-US</dc:language>
  <cp:lastModifiedBy>Dionne</cp:lastModifiedBy>
  <dcterms:modified xsi:type="dcterms:W3CDTF">2003-12-10T16:42:31Z</dcterms:modified>
  <cp:revision>9</cp:revision>
  <dc:subject/>
  <dc:title>PowerPoint Presentation</dc:title>
</cp:coreProperties>
</file>