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A63-2327-4CF0-8907-2379CDFB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684-C5D7-4A50-9FB3-D0642A18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D4D-64A3-47C9-AC36-0332F3CE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A9A-1543-4491-B78A-44C7F787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B2D-AE41-4107-A069-4EACF15C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F75-F97E-4A78-BFB4-206C9B34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410-C3ED-4CC4-B954-2600C9BE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7B7-7E48-4184-8BBF-466D7C1D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339-C276-42C2-90D3-580B5D50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302-6673-4748-931B-75085879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44B-B3F3-4420-9515-29087F5F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A2A-E17F-4C51-ADA3-A5D97FD6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96E9-4736-4BE5-8FAC-64C409FAC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8240" y="2286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M images of various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8920" y="685800"/>
            <a:ext cx="22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 with a polylysine mono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86160" y="685800"/>
            <a:ext cx="185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 with dendrites of sal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L3" descr=""/>
          <p:cNvPicPr/>
          <p:nvPr/>
        </p:nvPicPr>
        <p:blipFill>
          <a:blip r:embed="rId1"/>
          <a:srcRect l="0" t="13009" r="0" b="0"/>
          <a:stretch/>
        </p:blipFill>
        <p:spPr>
          <a:xfrm>
            <a:off x="533520" y="990720"/>
            <a:ext cx="3903480" cy="25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2880" y="3200400"/>
            <a:ext cx="348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lysine (5 mg/ml) 20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, 60 s. on mica, rinse, d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(FM probe f=67 kHz) in a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9-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ILICON" descr=""/>
          <p:cNvPicPr/>
          <p:nvPr/>
        </p:nvPicPr>
        <p:blipFill>
          <a:blip r:embed="rId2"/>
          <a:srcRect l="0" t="14146" r="0" b="0"/>
          <a:stretch/>
        </p:blipFill>
        <p:spPr>
          <a:xfrm>
            <a:off x="533520" y="3962520"/>
            <a:ext cx="390348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5320" y="365760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INU5" descr=""/>
          <p:cNvPicPr/>
          <p:nvPr/>
        </p:nvPicPr>
        <p:blipFill>
          <a:blip r:embed="rId3"/>
          <a:srcRect l="0" t="13009" r="0" b="0"/>
          <a:stretch/>
        </p:blipFill>
        <p:spPr>
          <a:xfrm>
            <a:off x="4952880" y="990720"/>
            <a:ext cx="3903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lastic_overview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3011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00280" y="3808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stic (from  a petri di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809880"/>
            <a:ext cx="35049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B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 mode,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 9 kHz, k = 0.1 N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bsau240403g18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920" y="228600"/>
            <a:ext cx="296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&lt;111&gt;, with probably a tortured rMB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d in TBS; tapping mod with FM t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3048120"/>
            <a:ext cx="6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nri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2:19:40Z</dcterms:created>
  <dc:creator>Dionne</dc:creator>
  <dc:description/>
  <dc:language>en-US</dc:language>
  <cp:lastModifiedBy>Henriette Jensenius</cp:lastModifiedBy>
  <dcterms:modified xsi:type="dcterms:W3CDTF">2003-05-21T09:56:37Z</dcterms:modified>
  <cp:revision>4</cp:revision>
  <dc:subject/>
  <dc:title>PowerPoint Presentation</dc:title>
</cp:coreProperties>
</file>