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3809880" y="1447920"/>
            <a:ext cx="4038840" cy="3886200"/>
            <a:chOff x="3809880" y="1447920"/>
            <a:chExt cx="4038840" cy="3886200"/>
          </a:xfrm>
        </p:grpSpPr>
        <p:sp>
          <p:nvSpPr>
            <p:cNvPr id="37" name=""/>
            <p:cNvSpPr/>
            <p:nvPr/>
          </p:nvSpPr>
          <p:spPr>
            <a:xfrm>
              <a:off x="4952880" y="2286360"/>
              <a:ext cx="175284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257800" y="19051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10080" y="1905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562720" y="190512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181480" y="167652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eaf5f6">
                    <a:alpha val="50196"/>
                  </a:srgbClr>
                </a:gs>
                <a:gs pos="100000">
                  <a:srgbClr val="f3f8f9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1905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5880" y="190512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400800" y="19051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72200" y="167652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eaf5f6">
                    <a:alpha val="50196"/>
                  </a:srgbClr>
                </a:gs>
                <a:gs pos="100000">
                  <a:srgbClr val="f3f8f9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9920" y="144792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f8d5c6">
                    <a:alpha val="50196"/>
                  </a:srgbClr>
                </a:gs>
                <a:gs pos="100000">
                  <a:srgbClr val="fae8e0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943600" y="2972160"/>
              <a:ext cx="380880" cy="75960"/>
              <a:chOff x="5943600" y="2972160"/>
              <a:chExt cx="380880" cy="75960"/>
            </a:xfrm>
          </p:grpSpPr>
          <p:sp>
            <p:nvSpPr>
              <p:cNvPr id="48" name=""/>
              <p:cNvSpPr/>
              <p:nvPr/>
            </p:nvSpPr>
            <p:spPr>
              <a:xfrm>
                <a:off x="5943600" y="2972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5943600" y="29721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019560" y="297216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6095880" y="29721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6172200" y="29721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H="1">
              <a:off x="5257440" y="281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57800" y="2819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9200" y="4191120"/>
              <a:ext cx="76212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 electrode piezo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smaller piezo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410080" y="29721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410080" y="2972160"/>
              <a:ext cx="381240" cy="75960"/>
              <a:chOff x="5410080" y="2972160"/>
              <a:chExt cx="381240" cy="75960"/>
            </a:xfrm>
          </p:grpSpPr>
          <p:sp>
            <p:nvSpPr>
              <p:cNvPr id="58" name=""/>
              <p:cNvSpPr/>
              <p:nvPr/>
            </p:nvSpPr>
            <p:spPr>
              <a:xfrm>
                <a:off x="5410080" y="2972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5410080" y="29721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486400" y="29721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5562360" y="297216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5638680" y="29721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flipH="1">
              <a:off x="6248160" y="281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0800" y="2819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7280" y="4191120"/>
              <a:ext cx="76212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 electrode piezo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arger piezo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647960" y="2514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2514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9880" y="2438640"/>
              <a:ext cx="838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gh voltage sig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10280" y="2438640"/>
              <a:ext cx="838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gh voltage sig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57200" y="1752480"/>
            <a:ext cx="2971800" cy="3581640"/>
            <a:chOff x="457200" y="1752480"/>
            <a:chExt cx="2971800" cy="3581640"/>
          </a:xfrm>
        </p:grpSpPr>
        <p:grpSp>
          <p:nvGrpSpPr>
            <p:cNvPr id="71" name=""/>
            <p:cNvGrpSpPr/>
            <p:nvPr/>
          </p:nvGrpSpPr>
          <p:grpSpPr>
            <a:xfrm>
              <a:off x="457200" y="1752480"/>
              <a:ext cx="2971800" cy="3581640"/>
              <a:chOff x="457200" y="1752480"/>
              <a:chExt cx="2971800" cy="358164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57200" y="1752480"/>
                <a:ext cx="2971800" cy="3581640"/>
                <a:chOff x="457200" y="1752480"/>
                <a:chExt cx="2971800" cy="35816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840" y="1905120"/>
                  <a:ext cx="2666880" cy="259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1905120" y="1752480"/>
                  <a:ext cx="1523880" cy="3581640"/>
                  <a:chOff x="1905120" y="1752480"/>
                  <a:chExt cx="1523880" cy="358164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1905120" y="17524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514600" y="1752480"/>
                    <a:ext cx="914400" cy="76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429000" y="2514600"/>
                    <a:ext cx="0" cy="281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457200" y="1752480"/>
                  <a:ext cx="1447920" cy="3581280"/>
                  <a:chOff x="457200" y="1752480"/>
                  <a:chExt cx="1447920" cy="358128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 flipH="1">
                    <a:off x="1325880" y="1752480"/>
                    <a:ext cx="579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457560" y="1752480"/>
                    <a:ext cx="868320" cy="76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457200" y="2514240"/>
                    <a:ext cx="0" cy="281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457200" y="5334120"/>
                  <a:ext cx="297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61760" y="2057400"/>
                <a:ext cx="1905480" cy="1905120"/>
                <a:chOff x="761760" y="2057400"/>
                <a:chExt cx="1905480" cy="1905120"/>
              </a:xfrm>
            </p:grpSpPr>
            <p:sp>
              <p:nvSpPr>
                <p:cNvPr id="84" name=""/>
                <p:cNvSpPr/>
                <p:nvPr/>
              </p:nvSpPr>
              <p:spPr>
                <a:xfrm flipH="1">
                  <a:off x="761760" y="2057400"/>
                  <a:ext cx="1219320" cy="121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2667240" y="236196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1066680" y="396252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981440" y="2057400"/>
                  <a:ext cx="685800" cy="304920"/>
                </a:xfrm>
                <a:custGeom>
                  <a:avLst/>
                  <a:gdLst/>
                  <a:ahLst/>
                  <a:rect l="l" t="t" r="r" b="b"/>
                  <a:pathLst>
                    <a:path w="432" h="192">
                      <a:moveTo>
                        <a:pt x="0" y="0"/>
                      </a:moveTo>
                      <a:cubicBezTo>
                        <a:pt x="40" y="9"/>
                        <a:pt x="168" y="24"/>
                        <a:pt x="240" y="56"/>
                      </a:cubicBezTo>
                      <a:cubicBezTo>
                        <a:pt x="312" y="88"/>
                        <a:pt x="392" y="164"/>
                        <a:pt x="432" y="19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62120" y="3276720"/>
                  <a:ext cx="304920" cy="685800"/>
                </a:xfrm>
                <a:custGeom>
                  <a:avLst/>
                  <a:gdLst/>
                  <a:ahLst/>
                  <a:rect l="l" t="t" r="r" b="b"/>
                  <a:pathLst>
                    <a:path w="192" h="432">
                      <a:moveTo>
                        <a:pt x="0" y="0"/>
                      </a:moveTo>
                      <a:cubicBezTo>
                        <a:pt x="11" y="38"/>
                        <a:pt x="32" y="160"/>
                        <a:pt x="64" y="232"/>
                      </a:cubicBezTo>
                      <a:cubicBezTo>
                        <a:pt x="96" y="304"/>
                        <a:pt x="165" y="390"/>
                        <a:pt x="192" y="4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" name=""/>
            <p:cNvGrpSpPr/>
            <p:nvPr/>
          </p:nvGrpSpPr>
          <p:grpSpPr>
            <a:xfrm>
              <a:off x="761760" y="2057040"/>
              <a:ext cx="1067040" cy="1067040"/>
              <a:chOff x="761760" y="2057040"/>
              <a:chExt cx="1067040" cy="10670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62120" y="2057040"/>
                <a:ext cx="1066680" cy="1066680"/>
                <a:chOff x="762120" y="2057040"/>
                <a:chExt cx="1066680" cy="106668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762120" y="2057040"/>
                  <a:ext cx="106668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676520" y="2133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524240" y="22860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371600" y="2438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14300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990720" y="2819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38440" y="2971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 flipH="1">
                <a:off x="1523520" y="2133720"/>
                <a:ext cx="3049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1447560" y="236196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752480" y="205740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447920" y="205704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837720" y="2819520"/>
                <a:ext cx="3049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1066680" y="274320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761760" y="304776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762120" y="274284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762120" y="14479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14479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066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mper for smaller pi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2880" y="5486400"/>
            <a:ext cx="197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 of scanner with cover rem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4864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matic of circuit board with jumpers on top. By moving the right jumper one connector to the left, the z voltage on the larger piezo is groun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22392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arge scanner in the MI consists of two independent piezo crystals. By grounding the z-voltage on one of the piezos, the z-range can be reduced from ~4.5 to ~1.5 micrometer to obtain  a higher z-resolution when the full height is not needed. The cover on top of the scanner must be removed by unscrewing the two "inbussen" at the top. Below is a schematic of the scanner and the jumpers. For correct height measurements, another calibration file (AFML325 small z ??) must be us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066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mper for larger pi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8:39:31Z</dcterms:created>
  <dc:creator>Es</dc:creator>
  <dc:description/>
  <dc:language>en-US</dc:language>
  <cp:lastModifiedBy>Es</cp:lastModifiedBy>
  <dcterms:modified xsi:type="dcterms:W3CDTF">2003-11-04T09:42:35Z</dcterms:modified>
  <cp:revision>4</cp:revision>
  <dc:subject/>
  <dc:title>Slide 1</dc:title>
</cp:coreProperties>
</file>